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529-8C75-4C02-AEA8-5F5128B8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2EE-227F-4334-BFDC-9AB41447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21919-41E2-4679-9C30-20CC611D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0892D-339C-45FD-85B5-5ED903A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6A5D0-2537-4C97-B3B1-A0CE551B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599CF-F6D4-49A8-83DB-52EB75E7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E21B0-7D8B-4F6B-B07A-A36F373D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09E73-5923-4BF5-81B7-3AE4DAB0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84A39-EF64-4A4A-A17B-9BF9FB7F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6315D-D986-400B-B1B9-C7C2D00E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D638F-E8FA-491C-950D-CF4385A7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D680F-587B-4F01-B70A-A8EF0474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2F7-45A1-4880-8971-A01B274F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C3108-02C2-4FE1-B075-D8A48EB7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EC6E2-0741-42FF-9675-51BAFB3C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54470-9B67-4F9F-ADA9-E6AB81F0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4814E-A2FE-46FE-8ACC-5F4EE656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8B172-485B-4558-930F-123E2072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123F6-BC6F-4F9C-8370-C4EA8DA2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90576-096B-488A-83C2-1909EAC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01324-C0EC-4E74-8C6F-8B36F95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DE06E-98EE-4E5E-B9AA-8627CA33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1F93A-E57F-49B7-9AE0-5B75605B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F84-1906-4237-BD21-3B5AE650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E89F3-8111-4324-AA46-80C723B4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37FFE-ADBF-4510-8592-D53852A7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BDC9C-665C-4EA4-9DF8-B1125E27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3BE62-4EBC-4240-99AD-5D567157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CC6D8-16EB-4525-9BB6-71A091E6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E7966-2BE1-42C2-82EA-85ABEB35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4B710-1BDD-4E7A-9A6D-B3B60587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F0D33-2687-403C-B550-84A8FE20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4261B-362C-4A22-B27F-74960357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E386C-B827-41AB-925A-40989D89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4AFF-97DC-4273-917C-39B63D61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01EDB-D13B-4134-AA18-CFD8A91E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2B532-B03C-44DE-818B-85B5F5DA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BDC1A-BF22-4039-A738-0EEF23F9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FB937-F96D-4B43-8D04-E1F5B27C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9AB76-C51E-481A-A5F1-A74F6438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BCBBA-6E42-408F-B527-01F2CF5D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518DC-8689-481E-9B6C-6349542D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58149-D1E9-4AB3-B4B8-6DA77A21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335F6-C304-4140-AAA7-7607B1A4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FC3B4-8029-456F-83C7-61B9E39D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BF4A-2404-48EF-BFE5-10DBB2C7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83192-C36A-4100-B2E8-D3A32B0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91D5B-76A1-49D5-83E6-32D195A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E7064-AB83-4A16-A7D4-5E45FCD8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AC92B-5862-4E50-B68B-6B69A8A2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30117-23CD-42CC-ACF2-39B84001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C19E3-2F76-490E-9AD8-FBA2CB74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82773-5AC1-4244-903D-54B907C5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C457F-9C6E-49C5-AFAE-B4F6C5B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D306A-C2A7-462E-90BB-CA0AEB5D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60A0A-5047-47B5-ACAD-C9654FA5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A3D5-01DB-4300-B00C-386FA606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290AB-F8D8-44F5-B37D-4FAE9949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30E5B-F328-4BF3-A268-70048247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6B2B5-D9B1-4682-B338-EA7A0426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854B9-D7F8-402C-ABBA-A851479F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60010-2E77-4677-BBD1-59241C05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FAAF6-2892-4054-90ED-0B3DAB22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9A926-CDD2-46D2-B2D6-D8B4A60E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BF2B6-731E-40C7-BBB8-01912BCA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84B8F-80E5-44A0-B801-DB699706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40B98-33B0-40D1-9D52-64E20156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3BC7-E324-4CF9-872F-94EBB71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91F5F-BE1F-41A6-8A4C-D2D9B86A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71639-3183-492D-9D58-C79E34B8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BF5AA-0C09-42C3-B1EF-41E8F10B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F81C6-84BF-41A3-A697-CB0CAC5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60385-85C2-49AE-ABC0-7095C84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E838C-6136-4DBA-9108-FFC0A15A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7856D-7EBD-4DD8-8546-9661E3C7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06B35-235D-4649-8FFA-8FD8690D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8FF89-B431-4766-A8EA-A3B0B51F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92E8B-28DA-4559-B374-6EA86761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B0FB-1D28-45DC-912D-FEDEF3F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57A37-0DAB-4FFE-831A-BEF3F488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3740E-2F04-4A99-BA21-AC4C25B2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19AF4-F0E3-472F-B24F-F7722BB4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983C1-6A91-4E00-BAF8-3345477C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42135-B08D-4C0B-B565-5DF9F4C2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DB6F62-2AB9-4ECF-A478-79E1C66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F4164-1BF6-492C-9FE4-523D2A33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E684C-F126-4D44-AA0F-04646799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518FA-2E0D-461D-BE25-76BE5C33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1DDA9-38E5-47D2-937C-B87F0E74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B97A-129B-4CEA-958A-0DA05C90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299F9-7E44-41F2-821A-A0DE1A76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4D95F-8C28-46B7-8FFB-9E051E5C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3F800-904F-49E9-AD51-802C5F08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030A2-E3FD-419F-966D-24B9EA48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3D5AF-C655-4F86-8F9F-DA7C7719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79E05-68D7-4D7C-AF1E-6FCB0B2A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C98F6-9D95-4C8F-BE5C-DFB46F05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5107B-AEFA-4D56-9805-F6FF625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5C3E8-A575-4BBC-9391-3796F27D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61250-6374-48CC-98C2-91AC065E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2702-53A8-4973-9938-D71581BA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CE748-B03B-4A3A-A3CE-C9CFF3B9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B2BA9-2D96-4874-87C8-E02102F7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5DDFB-E873-4614-AA27-36AC00F9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7F0AE-BB5A-49F1-9EB5-A70E107F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0181E-D0C7-4EA5-B6B5-8BBD69BC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9661F-8A51-4F68-99D4-7BD89067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F2905-49A2-46BB-8A9A-DE143E17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F63C7-3E5E-439D-95B3-5B27DA4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95A5B-F7DA-420E-9217-AB5FA954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7FFA4-45B7-453D-B95F-2917FAD6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7CC-35F1-4A88-B246-668DFEE4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B74-5163-4E4D-9BB8-9592843C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15054-659A-4D94-B4B1-F0D62637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D2AC8-1C25-4876-B712-493E53E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45D5E-4056-496C-9761-4108E1B7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4E167-7DF2-4CBA-87B2-888845E5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0E909-ACDB-4912-8F22-5BF440AC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3C1D8-C1CF-4353-BA41-37340679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BFCE4-7C2B-4492-8804-56CDF944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5BCC7-BC6B-4512-9FB7-9EE8B01E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239FC-0028-4EE0-9C95-DA8CFC8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2E2A6-D90E-4684-9195-3C1529F8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2D38-2521-485E-BFC9-CEB28823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35781-139F-48A0-8FC4-76CFB0D1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FB313C-D3D8-403F-83E7-6F4867AE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65A67-214E-44D7-A84A-2E9EFA3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71774C-ECCD-438A-BF54-C027E17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26EBB4-3574-4EE2-BB86-7723FB5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F2A55-F55A-4C12-BE7E-A2E5EC92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8410C-6127-4E11-AA0E-3B26B0D8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923E99-D067-4F4C-9AE7-3DC740BC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00508-3BC7-4258-B2FC-F5676EDB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0B945-9EFF-489F-AA5D-111630E4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DC63-0B9E-4B4C-A224-A0F79292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BD1C5-F48C-4BA2-8922-203A2A7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E7BB3A-C56C-4275-9C36-4C53B6BA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121E3-3E0A-4838-8BF0-BD539386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A8E5B-7669-4DAD-B13E-0A23AB4E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C4C29-10C0-4CA6-AC5D-257E004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BDDBB-0D35-4D85-AC99-0AF1BDFC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1F8CB-693C-4CEE-90BA-EACF0EE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23263-9DFB-4C10-A76C-00F0DF6E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AC0AA9-DFE7-4159-B2D3-B8BA4094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7103E-C795-4491-A225-C167DEC3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0CF3-B7A5-4DB6-9FEF-33130D21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45650-184D-4BA6-8603-B9BC119D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474B90-4D8B-4F6D-A21C-CB6889E1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49290-5ACB-4745-996C-9883CF5C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A37DF-AB5E-4FE5-A363-0D969ADF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AC766E-0790-424B-B0E7-804D93CB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8B59B-8559-4E27-B227-E42DA054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43EB6-DB5F-4787-A3C4-30B1DF1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9D47E-4DDA-4746-96CB-2A40ED7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F231C-3CD7-4047-825B-72185276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A295FE-9360-4205-BFA4-8F230CD2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A85-9CD1-4CE9-97D9-0DEE26DB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F520C-4854-4FE0-9DA3-FDF55E3C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43D132-F36B-4EC5-B6C2-EC781C95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332762-75F7-413B-B992-D28D855D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16C46-B44E-4DFD-A70D-93C47816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AEBF8A-A737-4599-98F1-2CFC376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B5480-E19F-43EB-96DB-E60195FD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63CC1-9B1E-4EE8-AE99-24E11478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1B143F-E211-4A9A-9BD4-CBDE109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E476B-4897-4619-A804-AF5E9E19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EC4F20-F71C-4ADE-867B-7972ACDD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1935-785F-401C-9B85-7D5EE1BE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62D14-F19D-4477-96FF-0D23BC48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733BD-2F4B-45C1-8B97-F24914A7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AC887-49B6-4D8A-9713-1516F178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2DAA87-B546-4626-BA50-7EBEF927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8CFFAF-3721-43E2-9A94-2926024B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DCE65-C0E7-4DE9-AC39-1D92F445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C17282-9A0A-4938-8CDD-6B2D0EB0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C7BDCC-DE96-4B8C-8301-28EF12B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AD391F-56CF-4FC6-84B3-227F9C9B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583A24-95B2-4619-BF40-0EFF57B6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7328-191A-4205-88E2-7C6CD56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D5AA5-B4C9-49ED-A29D-A52CD6A1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C9D46F-E3C8-45F7-9065-8DC9BF03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F63D14-291A-444B-B503-6F3F8AB3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6859D4-8EBB-4E4B-BC40-993486D6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E34BD0-76EA-4083-83A4-0114709A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A2E0EA-5EE6-48B0-81A4-09FCBF73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32AE4E-982E-407B-AD7F-6E0C722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451615-567F-4464-ABB1-7C9CBD68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33111F-8300-4D65-B0D6-78522B8C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CC7086-26FB-4A3F-85EE-C77310F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B8E1-5557-489E-B21D-AE16DEF5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9D9311-698B-4D69-90FF-645B076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E7C4FE-33CB-4221-A086-AFACCAB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EB2DFD-19A3-4197-A1CF-1C332BC2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809143-D988-4B1D-9F4A-3ED4E57D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531793-0604-4625-B746-3F615034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47C01F-C1AD-48C6-925F-792D26E4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3AAE62-A6BB-40C1-A998-9696FFA9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D3A8-3D8C-4BBA-B33E-A0AE451F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1080-AE84-46A8-9DF0-8204AE5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031-C88F-465D-96DE-74EEB602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A3BF-B902-4F13-9F42-94A16A89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7F8E-F73A-46A9-BF77-87D473AC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953F-B753-4D9C-94F3-F648380B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AB01-F716-41C8-A333-46FD9EE2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07D62-7CD3-47D2-A079-35FD120B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F237F-3EB4-40C6-92FB-84462DDB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F72B-F55C-4F32-BE87-2FF1670C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14E1-3928-4C80-B094-1A3812EB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A975-7326-4A43-8236-F99A2DB1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84A7D-6D56-4806-ADDE-BE0735A7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A77-4DFB-4670-9239-54283192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2816-EE18-4E92-995C-655F7691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268A8-E6CC-49CB-A903-0AE74D06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2183-0B01-4340-85DD-415FE865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192CF-846E-4B25-AD26-7F70A92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AFB3-21CE-4EA6-83EA-62FE5112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29ED-FD89-469E-8C1B-21E44E64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9250-4A40-466F-8BF1-9BDFB160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3C06-FC63-47B0-8B8F-9D2AFCD8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9DADE-2E71-4227-BD25-E54E8B19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4BB3-3A82-4279-BB94-21F93E62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C62-4F48-4F1A-BB86-EED2B13E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4747-51B2-4529-B4DB-A72D04A1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0B353-F1C6-46BA-B983-E739AFEC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0E407-0B96-4B31-BD2F-7830F25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DCEA8-67F1-4C50-AC2A-3D377AF5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E149D-1ED5-44FA-998E-1271EDF6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0ADB-C8AF-46EC-9811-96016960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5CFD7-C2A9-4A52-AC59-45CD804F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63300-4BC2-490B-8C9C-DC55805A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0A1C2-9A73-4292-A714-76576B32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FC5A-3C04-4540-8555-DA25398A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6D3-201E-42A0-BE25-2C809672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461B5-AE6B-4EEF-9558-79E822E2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E82CB-4113-4E1C-AC3C-A6962D45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6C14C-FEF3-4DF0-A18C-291C413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960FD-15E8-4C44-AD2B-35CD77D7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E2B2E-94C5-4C59-81EA-CC025F9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FD80C-C307-4AE2-81CF-6DAD6F16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11601-9976-4A3D-8DB1-88E80BAF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45DF4-B577-4150-97D9-BD61CB70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5779-11D9-44E6-9A26-43F41450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51227-536A-4A57-AA53-3F148C0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907-66F2-4CEB-A63B-D48EC8B4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D8F74-3DCE-4035-BEBF-5C1FA2B2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60B3B-1ED0-4C55-8A1A-D18922DA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854A-4539-44BB-A5F8-DDD59734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4DCF2-5212-4540-A56F-AFB52543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F508E-6AE8-4D33-B047-CE45108B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DFD0F-3055-4F27-8286-D4F16AE1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A184C-2DAC-46C9-9CDC-4B4F7FC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F14AB-780C-4642-BDC8-F783582D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D816D-CAF0-49A2-91C3-090E5DCA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B12F2-3732-4312-B455-16835C87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436-41E4-4293-9E34-CA85A752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A8EA4-D7BA-4CF4-AC98-46B5A0A0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9425E-28C0-4C6C-BA3C-FC51EDE5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24542-CFCB-47DC-B380-9A2C3A0A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040D3-4A07-42DE-A6FD-39525AFB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41A76-25AF-491E-9658-58C23F96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DB692-CB1F-4669-92F9-1DC0E5BD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F50F6-90C4-4A9D-B407-D3765A76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EAFEF-F62D-4767-A2FA-24F92851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108B3-11D2-4C1B-9590-5556A153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64DE3-5B48-4117-A4D6-3CDB2FC6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6FF-7806-4BE7-9D16-492D5F4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BC1E4-A2E6-4D9C-A7F5-33D92A54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4F9D-2505-400F-8E23-076074A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B3939-4B9E-4774-91B8-71745E4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7269C-E36E-4811-888F-C3D2AA2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AD647-83AA-4D32-9A79-0F43B638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CC08D-8239-4FFA-9667-49A9EBD5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729CE-68D1-4C1B-B036-DD0C2228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88FCD-25F1-4C0C-8CC0-AC2007EF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723C6-E700-42FC-9B30-67AB19CA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D8AE2-DC8A-4727-A375-C6F1EF78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9E37-E176-4154-85F1-C6719AC83E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FB40-7BC2-4839-BDC5-02C5DE33D5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B020-6160-44F2-A53D-EF599F151D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45A9-F97B-4DF9-993F-06061809C9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126E-E352-4FC9-875D-03204EE88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ED6C-503A-428F-9767-EBBCD634A6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8554-CE2D-4BBC-B389-3CF423BD9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7D19-9686-4E59-B530-DB82E5EC24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0E9E-5BDB-4F3C-9E8C-E837BF36E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98A5-BB53-4E1B-A7CC-813CA5E46E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DD48-9EC1-41BB-BAB1-38A0AAE368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408E-381B-4DCF-BE5F-07231C0905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FCEF-95DF-4703-A591-F39F8490B9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DE61-B219-462D-9E7C-E26FE3B0DD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FEB7-47D8-4972-90A4-D429599B7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416C-1340-4A0A-863E-16A0E8D8B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1960-FD52-47ED-8377-89875DDA3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5812-F8FC-4519-B8D7-63E4D701C3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D7B4-3CA0-4A62-82F4-0A42EFC3E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8648-69EF-4AA0-9FBA-EBEB036BB7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454B-174E-4ED9-AB18-4EE1BB7A0B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A0E3-BEAB-4C63-993C-286BDD3257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3AF5-D05B-44F8-ADBC-1ADB262DFE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A456-700E-4C08-A800-DFF07C058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86F6-F783-47A8-A96B-3608D5A3F6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F3E1-3771-4B75-A6C5-34C2F5951D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0059-3EF3-4F43-8C9B-D1C2A1E01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CB1B-FF7D-4EDA-A9BB-D299EDBE5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78AC-0844-4DE1-9E60-F95591A188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0A73-9651-4258-A29B-2EC669BDB3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590F-EE13-43BF-835F-C1AA942C29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EA7A-1135-4731-B114-6FA7827F5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A55E-1113-4ADA-B7B0-D9342A0A1B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BFB6-D1E9-444B-ACA9-BE846EC058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C7D5-6E0E-4B26-A35C-1F82B48FD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CBB0-A67E-4577-B0E7-4736FAB855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DA1E-E211-481D-A8B0-ECE36A8797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7DF-D320-4476-940F-1473DACA2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BCE2-B9C9-4551-907B-A679F393A7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421F-7811-47FF-BABC-06AF7FA3E8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72A6-4E4A-46A7-A491-A93EF16835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3E36-8D8A-4461-A52A-60856B674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7240" y="3095640"/>
            <a:ext cx="885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089000" y="306360"/>
            <a:ext cx="7537320" cy="6485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327560" y="2081160"/>
            <a:ext cx="344520" cy="306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012000" y="23115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6149" descr=""/>
          <p:cNvPicPr/>
          <p:nvPr/>
        </p:nvPicPr>
        <p:blipFill>
          <a:blip r:embed="rId5"/>
          <a:stretch/>
        </p:blipFill>
        <p:spPr>
          <a:xfrm>
            <a:off x="1509840" y="2895480"/>
            <a:ext cx="35226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281160" y="1585800"/>
            <a:ext cx="8581680" cy="36864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3780000" y="184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556000" y="227664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7596360" y="272268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2340000" y="3156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6746760" y="3659040"/>
            <a:ext cx="28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5407200" y="414972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304920" y="1019160"/>
            <a:ext cx="8534160" cy="4819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258920" y="2766960"/>
            <a:ext cx="2376360" cy="3183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3132000" y="198900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724360" y="2565360"/>
            <a:ext cx="2880000" cy="31831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7597800" y="2003400"/>
            <a:ext cx="10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90480" y="860400"/>
            <a:ext cx="7763040" cy="5543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3168720" cy="4319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2771640" y="93672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5508720" y="1744560"/>
            <a:ext cx="3168720" cy="43196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7308720" y="907920"/>
            <a:ext cx="14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52280" y="1481040"/>
            <a:ext cx="8839440" cy="3895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826920" y="3268800"/>
            <a:ext cx="525780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900000" y="4048200"/>
            <a:ext cx="5257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47600" y="1790640"/>
            <a:ext cx="8848800" cy="3276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3616200"/>
            <a:ext cx="511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00000" y="4349880"/>
            <a:ext cx="60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233280" y="990720"/>
            <a:ext cx="8677440" cy="4876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3630600"/>
            <a:ext cx="511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11164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755640" y="5157720"/>
            <a:ext cx="511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243000" y="851040"/>
            <a:ext cx="8658000" cy="591480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3314" descr=""/>
          <p:cNvPicPr/>
          <p:nvPr/>
        </p:nvPicPr>
        <p:blipFill>
          <a:blip r:embed="rId2"/>
          <a:stretch/>
        </p:blipFill>
        <p:spPr>
          <a:xfrm>
            <a:off x="1000080" y="1833480"/>
            <a:ext cx="3390840" cy="461988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13315" descr=""/>
          <p:cNvPicPr/>
          <p:nvPr/>
        </p:nvPicPr>
        <p:blipFill>
          <a:blip r:embed="rId3"/>
          <a:stretch/>
        </p:blipFill>
        <p:spPr>
          <a:xfrm>
            <a:off x="5018040" y="1859040"/>
            <a:ext cx="3695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9:2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